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53FB5-064F-4340-9F5D-8217AB151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D60C-EC7A-4074-9E53-A2BBB23A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09DDA-101E-4175-AA52-4439E23DF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3B131-74C0-4FAD-A122-56189859E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1802-750E-4F8B-BA77-3CFD12449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AFAB3-01F7-484F-BFB2-3E2E842B8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7A8F-E447-4196-B778-4AF57296A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9795-FECC-4C1D-A1DD-605312AF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A895-D19A-4DAF-A601-BF2E7F81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77549-72F6-46D7-AE5D-4E98EE40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934A-B3FC-4EB3-B50E-6EFA22B0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BBAF-25DD-4704-BB5D-C8D9599DE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E32B-581F-4891-96DE-4F9DF5054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ou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800"/>
                                        <p:tgtEl>
                                          <p:spTgt spid="55">
                                            <p:txEl>
                                              <p:pRg st="2" end="2"/>
                                            </p:txEl>
                                          </p:spTgt>
                                        </p:tgtEl>
                                      </p:cBhvr>
                                    </p:animEffect>
                                    <p:anim calcmode="lin" valueType="num">
                                      <p:cBhvr additive="repl">
                                        <p:cTn id="84"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5"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86"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